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AE4-E29C-4D55-AA37-12341F1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875-C27E-4281-AACB-66D721D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AD2-55BD-4EAB-AB9E-85C71B37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61A-CA5E-4DE1-8539-1B570F9F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487-0059-4055-973F-12617B34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22E-3BA2-44C0-9217-518ECD0A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BDC-A566-4B76-B34B-127C799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422-3D8E-446E-AA12-184EEF3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CF2-88AC-4AA7-91ED-AAC66FF5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95E-C907-41D4-AFA2-09C2AE8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1DF-E99E-4E0B-B114-C220CA6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7E7-FD68-43ED-8505-3018BF0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D45F-45A2-4803-BB6B-A6708DD2FE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000000"/>
                </a:solidFill>
                <a:latin typeface="Arial"/>
              </a:rPr>
              <a:t>Kompas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 čo ďale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 poznáme kinetickú a potenciálnu energiu systému v závislosti o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, vieme porátať, čo to r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 jednoduchosť predpokladajme, ž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00360" y="3789360"/>
                <a:ext cx="18003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 a T vieme zapísať v tv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de sme využili veľmi prefíkanú substitúc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40000" y="981000"/>
                <a:ext cx="4343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71640" y="3068640"/>
                <a:ext cx="7812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067280" y="5516640"/>
                <a:ext cx="151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o znamená ž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ergia systému je konštant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akú istú energiu by mali dva LHO popísané výchylkami </a:t>
            </a: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edchádzajúci bod je dôležit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namená že systém sa správa ako dva nezávislé oscilátory, ktoré sa navzájom vôbec necít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dtiaľ 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95640" y="4437000"/>
                <a:ext cx="396108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šimnime si, ž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dáme počiatočné podmien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áme časovú závislosť p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300720" y="3355920"/>
                <a:ext cx="20163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08360" y="476280"/>
                <a:ext cx="199728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79640" y="4149720"/>
                <a:ext cx="19429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budú robiť kompas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pomeňme s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 v tejto rovnici konštanta B popisuje magnetické pole Zeme a konštanta C popisuje magnetické pole komp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 toho: B&gt;&gt;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95640" y="2276640"/>
                <a:ext cx="432108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αβ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á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čitujeme dve vlnenia s rovnakou amplitúdou a veľmi podobnými frekvenciami -&gt; rá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80000" y="2708280"/>
                <a:ext cx="211464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2852640"/>
                <a:ext cx="388764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erióda ráz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lnenia 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x(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t) a 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y(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budú interferovať konštruktívne alebo deštruktívne – závisí od rozdielu fá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mena fázy jedného z vlnení oproti druhému o pol periódy (-&gt; KI sa zmení na DI) trv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erióda rázov teda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oto platí pr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aj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sk-SK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..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 teórie tiež vyplýva, že rázy druhého kompasu budú fázovo posunuté – maxim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-&gt;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64000" y="3068640"/>
                <a:ext cx="1368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72000" y="4005360"/>
                <a:ext cx="10080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/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ko to naozaj vyzer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1855800"/>
          <a:ext cx="86407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55800"/>
                    <a:ext cx="8640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perim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kúsiť najprv namerať jeden kompas – z periódy sa dá vyrátať vzťah medzi momentom zotrvačnosti strelky a jej magnetickým momen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hodný je kompas s čo najmenším trením -&gt; z hračkárst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perim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eba dva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rovnaké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komp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á sa zmerať pole kompasov (IP coach). Teória potom dáva konkrétne hodnoty pre periódu rázo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ať si pozor na to, aby pole vo vzdialenosti kam klasieme strelku bolo zhruba homogé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Akou situáciou sa ideme zaobera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4149720"/>
            <a:ext cx="16556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2205000"/>
            <a:ext cx="165600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132000" y="2420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2421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720" y="3519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32000" y="436536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xperim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kúsiť aj iné vzájomné polohy kompasov a smeru sev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loha sa dá poňať aj skoro čisto experimentálne, teória sa dá redukovať na kvalitatívne vysvetlenie „prelievania energie“ – viď táto prezent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ktrický vs. magnetický dip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to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koro rovnaké vzorce.. náho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 je to náh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deme pracovať s elektrickým, lebo ten sa dá aspoň ako tak pochopiť inutíciou stredoškol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šetko čo porátame pre elektrické platí (po elementárnej zmene konštánt) aj pre magnetic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ktrický a magnetický dipó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84720" cy="324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24360" y="2278080"/>
            <a:ext cx="423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le elektrického dipó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40360" y="2276640"/>
                <a:ext cx="4392360" cy="27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6954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nergia – 2 elektrické dipó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20640" y="1793880"/>
                <a:ext cx="5926320" cy="38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7182000" y="2133720"/>
          <a:ext cx="1962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82000" y="2133720"/>
                    <a:ext cx="1962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 zjednodušení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4360" y="1773360"/>
                <a:ext cx="263052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≈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046240" y="4325760"/>
                <a:ext cx="5230800" cy="12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αβ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995640" y="213372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+ zmena nulovej hladiny potenciálnej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Energia dipólov vo vonkajšom poli 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(interakcia kompasu so Zem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92360" y="1790640"/>
                <a:ext cx="583236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58920" y="386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Celková potenciálna energ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08000" y="4869000"/>
                <a:ext cx="5329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inetická ener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1557360"/>
                <a:ext cx="26589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651640" y="2060640"/>
            <a:ext cx="2950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momenty zotrvačnosti strel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365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lková kinetická energ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27280" y="5229360"/>
                <a:ext cx="3743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39:21Z</dcterms:created>
  <dc:creator>Educa</dc:creator>
  <dc:description/>
  <dc:language>en-US</dc:language>
  <cp:lastModifiedBy>mama</cp:lastModifiedBy>
  <dcterms:modified xsi:type="dcterms:W3CDTF">2008-11-06T01:20:53Z</dcterms:modified>
  <cp:revision>9</cp:revision>
  <dc:subject/>
  <dc:title>Slide 1</dc:title>
</cp:coreProperties>
</file>