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8D7-7D4E-4BD0-885A-7B0EC8E3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FE3-D996-4788-BF24-AABE796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268-E8FC-4A8C-BF9D-715F5255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63B-624D-4A31-A8A7-D7C8A74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EED-CF12-45BF-8032-CCDE66BE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64D-1BC2-492C-9234-9789506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916-1FEB-4800-9DC9-514EA1DD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803-C873-4B87-8EDF-7CB5F5C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E59-E4E7-4D4D-B460-480D6B14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12C-8A1E-4F74-85DB-749D472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FE5-D42F-4A1E-8394-6663F8D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44A-A383-4A74-AC97-E76D634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5D6-C92A-4918-88E3-E81DD88A6C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teboard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chmúrna dráma s veselým kon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4120" y="3352680"/>
            <a:ext cx="205740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Keby na skateboardistu pôsobili vhodné sily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jaké také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2952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3240" y="2514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8098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19560" y="50292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981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860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7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697800">
            <a:off x="4419720" y="5410080"/>
            <a:ext cx="1676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666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11120" y="33526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mer pohy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sa st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ložíme silu do smeru rovnobežného a kolmého na dráhu. Kolmá sa vykompenzuje reakciou od zeme, rovnobežná urýchľ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438280"/>
            <a:ext cx="198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32763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8862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sa st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pačný smer? Žiadny problém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10080" y="2438280"/>
            <a:ext cx="198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412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638680" y="28954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120" y="35053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sa st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ložíme silu do smeru rovnobežného a kolmého na dráhu. Kolmá sa vykompenzuje reakciou od zeme, rovnobežná nás urýchľ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438280"/>
            <a:ext cx="198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324480" y="32763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38862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Ako docieliť takéto pôsobiace s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 skateboardista zrýchľuje telom doprava, pôsobí na skateboard sila vpravo a naop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rýchľovanie v priečnom smere musí niekedy zastavi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á sa docieliť vďaka tomu, že urýchľujeme periodicky vľavo a vpr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conceiva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vyššie uvedených predpokladov, stačí skateboardistovi, aby húpal telom zľava doprava a bude urýchľova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éže to boli predpokl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hyb skateboardistu musí byť viazaný na esíčkovitú trajektór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jjednoduchšie riešenie – skateboardista v každom rohu natočí skateboard do správneho s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rata istej rý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rýchľovanie musí byť väčšie ako st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12952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086240" y="2514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38098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162560" y="50292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981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6290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robiť? Niekoľko námetov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jsť niekoho od fachu, kto tomu rozumie a skonzultovať s ním, ako sa to vlastne rob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á sa skateboardista urýchliť pri modeli zatáčania popísanom na predchádzajúcom slide? Dá sa pri realistických hodnotách zrýchlenia skateboardistu docieliť urýchlenie väčšie ako spomalenie v roh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49800" y="3886200"/>
            <a:ext cx="48744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chýľo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mal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ôže byť prvé výraznejšie ako druh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7725200">
            <a:off x="6175440" y="3121920"/>
            <a:ext cx="1066680" cy="58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324120" y="2819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6692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1148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779640" y="2620440"/>
            <a:ext cx="2757240" cy="4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30640" y="4191120"/>
            <a:ext cx="274320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robiť? Niekoľko námetov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o vlastne skateboardista zatáča? Ako čo najľahšie docieliť S-trajektóriu? Dá sa to spraviť nejako inak ako neefektívnym „trhaním“ skateboar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nášanie vá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z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 tvorbe slidov k prezentácii si treba dať záležať, čo na slidy nasápať a čo nie. Niektoré veci (ako napríklad tento slide) si poslucháč radšej vypočuje. Naopak, iné veci lepšie raz vidieť ako 10x počuť. Tieto slidy sú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rehustené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– v dobrej prezentácii by sa polovica tu písaného textu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ovorila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. Prehustenie je spôsobené tým, že chcem, aby sa slidy dali použiť ako samostatný materi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xperimentálna časť probl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príjemn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ľmi nepríjemn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 necháme skateboardovať človeka, ťažko okontrolujeme, čo vlastne r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o skateboardista rozkladá svoju váhu? Ako hýbe ťažiskom? Nikdy nezistím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xperimentálna časť probl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celo by to jednoduchý ľahko popísateľný model človeka – napríklad postaviť na skateboard závažíčko, ktoré sa môže (motorom) pohybovať v rovine skatebo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á sa však potom docieliť S-trajektória a vhodné pravo-ľavé zrýchľovanie ťažiska súčas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Zá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48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eória nie je ťažká a nejaké body sa dajú uhnať aj za ň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periment je náročný (ak sa nevymyslí nejaký jednoduchý avšak postačujúci model skateboardistu) avšak ak by sa podaril, bolo by to skvelé. Ak rozpohybujete nejakého umelého skateboardistu, u mňa máte 9 bodov istý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si aj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22600" y="2025720"/>
            <a:ext cx="55926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o sa tak má, zvyknite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06960" y="3551400"/>
            <a:ext cx="868320" cy="10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ateboardista sa dok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že rozbehnúť na vodorovnom povrchu iba pohybom svojho tela, bez toho, aby sa dotýkal vonkajšej opory. Vyšetrite parametre, ktoré vplývajú na pohyb skateboardistu takýmto spôsob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tické a dynamické tr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udkým trhnutím sa dá získať počiatočná rýchl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čiatočná rýchlosť sa dá získať aj odrazom od zeme – porušujeme zadan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 sme získali nejakú počiatočnú rýchlosť, je na čase začať špekulovať,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čo s ň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eúprosný ZZ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vôli zákonu zachovania hybnosti nám bez vonkajších pôsobiacich síl neostáva, než sa pohybovať rovnomerne priamoči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Žiadne „mykanie“ na strany, hore dole, či dopredu – dozadu nepomôž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ôsobiace s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é sily teda pôsobia? Gravitačná, reakčná – kolmo na dosku, odporová – brzd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me NAHRA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4876920"/>
            <a:ext cx="2666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1814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51814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909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4812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114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35268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886200" y="41148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86200" y="32767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6668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5053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5812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9625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ko na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 uvedeného vyplýva, že ak sa chceme urýchliť, nestačí sa pohybovať po priam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menieme si na lode, ktoré sa dokážu pohybovať „cik-cak“ proti vet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keby sme skúsili niečo podobn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vážny predpo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kúsme predpokladať, že pohyb skateboardistu bude viazaný na „esíčkovitú“ trajektór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tiaľ nebudeme riešiť, ako také niečo docieliť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rajektória skateboar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 rohoch si predstavíme oblúčiky, úvahy však pre jednoduchosť budeme robiť s lomenou čia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2952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943240" y="2514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8098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019560" y="50292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ma</cp:lastModifiedBy>
  <dcterms:modified xsi:type="dcterms:W3CDTF">2008-11-04T23:00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